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81E9-2D9B-444F-B605-3B6ADC234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12A-6195-4ED7-A8B1-DF71EF5F4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A74-99B5-4984-A1EC-48513B50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582-A278-453F-BD86-F6E6347F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748-02A9-4A19-8BD6-BD0B258E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8D8-7A4B-417A-AFDD-97B241F5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5A8-58E1-4F24-AB36-60131887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ED6-9691-4E85-801B-6636508A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0BC-C499-44F2-9308-6FB9EEAD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191-DE6A-4020-8FCC-47FBEC74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FD8-B145-4A12-894B-BFBC34C9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ACB-FB29-4BF0-A7A9-381FB961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04E-8CD3-4C40-9CF7-7396BE94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D9B-BB75-4782-AEE4-9E103DAD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C7B2-41B0-4F10-9DF8-BBF0D23D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3029040" y="320040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657600" y="3124080"/>
            <a:ext cx="3657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yora. Yo n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s tú hoy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8:03Z</dcterms:modified>
  <cp:revision>105</cp:revision>
  <dc:subject/>
  <dc:title>Profile</dc:title>
</cp:coreProperties>
</file>